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3.jpeg" ContentType="image/jpeg"/>
  <Override PartName="/ppt/media/image1.png" ContentType="image/png"/>
  <Override PartName="/ppt/media/click.wav" ContentType="audio/x-wav"/>
  <Override PartName="/ppt/media/image12.png" ContentType="image/png"/>
  <Override PartName="/ppt/media/image2.jpeg" ContentType="image/jpeg"/>
  <Override PartName="/ppt/media/image3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528-8B4B-4D6A-BD75-C04AB9B5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FF10-D6C8-4484-90D9-7161203A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8ED-6232-43E9-940F-A3800852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2DE7-5B31-4C11-9AB8-B272BFA3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74A-5B3F-4891-8E98-83855DE7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129-49AB-4BF2-B6F6-731F0437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DE3-ABD7-4618-B430-ECA6C39A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C72-BB27-4C72-9F34-B45B54F8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95A-6625-42B1-9757-9ED99AE9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EE61-734F-44BB-8AFB-BC3997DE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A8D-DBA5-45AC-8AEC-B68E771C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C22-EB9C-4B60-8432-572DD0BD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4BB3-28AB-4F29-AAE3-109F38B3F1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WScan00009"/>
          <p:cNvPicPr/>
          <p:nvPr/>
        </p:nvPicPr>
        <p:blipFill>
          <a:blip r:embed="rId1"/>
          <a:stretch/>
        </p:blipFill>
        <p:spPr>
          <a:xfrm>
            <a:off x="2627280" y="189000"/>
            <a:ext cx="4176720" cy="63943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зеро «Светленько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ешение от 196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лощадь- 0,024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большой водо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зеро слабопрото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 дне мощное отложение сапропелевого ила (до 4-6 м). Обладает лечебными св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оз аракуль светленькое"/>
          <p:cNvPicPr/>
          <p:nvPr/>
        </p:nvPicPr>
        <p:blipFill>
          <a:blip r:embed="rId1"/>
          <a:stretch/>
        </p:blipFill>
        <p:spPr>
          <a:xfrm>
            <a:off x="4572000" y="1628640"/>
            <a:ext cx="4390920" cy="4537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76" name="Line 7"/>
          <p:cNvSpPr/>
          <p:nvPr/>
        </p:nvSpPr>
        <p:spPr>
          <a:xfrm>
            <a:off x="5003640" y="1125360"/>
            <a:ext cx="3240360" cy="4175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3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зеро «Долго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ешение от 199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лощадь – 0, 12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Живописное озеро. Антропогенному воздействию не подверг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кружено сосновым ле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 берегам есть выходы горных п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ода чис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оз"/>
          <p:cNvPicPr/>
          <p:nvPr/>
        </p:nvPicPr>
        <p:blipFill>
          <a:blip r:embed="rId1"/>
          <a:stretch/>
        </p:blipFill>
        <p:spPr>
          <a:xfrm>
            <a:off x="179280" y="1916280"/>
            <a:ext cx="4464000" cy="3313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80" name="Line 7"/>
          <p:cNvSpPr/>
          <p:nvPr/>
        </p:nvSpPr>
        <p:spPr>
          <a:xfrm flipH="1">
            <a:off x="1547640" y="1125360"/>
            <a:ext cx="2880000" cy="3024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3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3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Геологические памятники прир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Курочкин 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Расположен в 4 км к Юго-западу от г. Вишневогор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Минералогическая копь: жилы нефелиновых пегматитов с кристаллами эгиринагав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бъект научно- познавательного знач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оз аракуль светленькое"/>
          <p:cNvPicPr/>
          <p:nvPr/>
        </p:nvPicPr>
        <p:blipFill>
          <a:blip r:embed="rId1"/>
          <a:stretch/>
        </p:blipFill>
        <p:spPr>
          <a:xfrm>
            <a:off x="4390920" y="1857240"/>
            <a:ext cx="4753080" cy="4307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84" name="Line 7"/>
          <p:cNvSpPr/>
          <p:nvPr/>
        </p:nvSpPr>
        <p:spPr>
          <a:xfrm>
            <a:off x="2843280" y="1628640"/>
            <a:ext cx="4032360" cy="252108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3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3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3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ерспективные особо охраняемые природные объекты Каслинского района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Природный парк «Иртяшск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аходится на территории Каслинского района и г.Кыштыма, включая озеро Иртя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оздан для охраны уникальных участков горно-заводского Урала и организации тур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оз"/>
          <p:cNvPicPr/>
          <p:nvPr/>
        </p:nvPicPr>
        <p:blipFill>
          <a:blip r:embed="rId1"/>
          <a:stretch/>
        </p:blipFill>
        <p:spPr>
          <a:xfrm>
            <a:off x="784080" y="1628640"/>
            <a:ext cx="3383280" cy="4467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Зона санитарной охраны реки Мау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маук"/>
          <p:cNvPicPr/>
          <p:nvPr/>
        </p:nvPicPr>
        <p:blipFill>
          <a:blip r:embed="rId1"/>
          <a:stretch/>
        </p:blipFill>
        <p:spPr>
          <a:xfrm>
            <a:off x="684360" y="1413000"/>
            <a:ext cx="7920000" cy="2592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Создана на территории Каслинского района для охраны источника питьевого водоснабжения города Касли и Лесных массивов на водосборной площади этой ре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Зона санитарной охраны озера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ина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Создана на территории города Снежинск (Челябинск-70) для охраны источника питьевого водоснабжения города и сохранения окружающих озеро хвойных л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оз"/>
          <p:cNvPicPr/>
          <p:nvPr/>
        </p:nvPicPr>
        <p:blipFill>
          <a:blip r:embed="rId1"/>
          <a:stretch/>
        </p:blipFill>
        <p:spPr>
          <a:xfrm>
            <a:off x="4951440" y="1600200"/>
            <a:ext cx="3432240" cy="2185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94" name="Picture 8" descr="Изображение 052"/>
          <p:cNvPicPr/>
          <p:nvPr/>
        </p:nvPicPr>
        <p:blipFill>
          <a:blip r:embed="rId2"/>
          <a:stretch/>
        </p:blipFill>
        <p:spPr>
          <a:xfrm>
            <a:off x="5003640" y="3938760"/>
            <a:ext cx="3529080" cy="2585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5" name="Line 9"/>
          <p:cNvSpPr/>
          <p:nvPr/>
        </p:nvSpPr>
        <p:spPr>
          <a:xfrm>
            <a:off x="3851280" y="1413000"/>
            <a:ext cx="1584360" cy="1584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ещё особо охраняемые территории в Каслинском райо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елайте сообщения о таких территор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ы вы территории включили в число особо охраняемых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ясни причины такого ре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Каслинского района Челябин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россия карта1"/>
          <p:cNvPicPr/>
          <p:nvPr/>
        </p:nvPicPr>
        <p:blipFill>
          <a:blip r:embed="rId1"/>
          <a:stretch/>
        </p:blipFill>
        <p:spPr>
          <a:xfrm>
            <a:off x="684360" y="1916280"/>
            <a:ext cx="7991280" cy="45370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4" name="Freeform 7"/>
          <p:cNvSpPr/>
          <p:nvPr/>
        </p:nvSpPr>
        <p:spPr>
          <a:xfrm>
            <a:off x="2739960" y="4611600"/>
            <a:ext cx="430200" cy="44784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челяб обл"/>
          <p:cNvPicPr/>
          <p:nvPr/>
        </p:nvPicPr>
        <p:blipFill>
          <a:blip r:embed="rId1"/>
          <a:stretch/>
        </p:blipFill>
        <p:spPr>
          <a:xfrm>
            <a:off x="684360" y="1484280"/>
            <a:ext cx="3797280" cy="4525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На территории Челябинской области расположены два заповедни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Ильменский государственный заповедник им.В.И.Ленина в Чебаркульском и Аргояшском районах и Восточно-Уральский заповедник в Кунашакском и Каслинском районах</a:t>
            </a:r>
            <a:r>
              <a:rPr b="1" lang="ru-RU" sz="1600" spc="-1" strike="noStrike">
                <a:solidFill>
                  <a:srgbClr val="d6009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 flipH="1">
            <a:off x="2410920" y="2852640"/>
            <a:ext cx="259236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H="1" flipV="1">
            <a:off x="2700360" y="1844280"/>
            <a:ext cx="2449440" cy="23763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Восточно-Уральский заповед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каслинский заповедник"/>
          <p:cNvPicPr/>
          <p:nvPr/>
        </p:nvPicPr>
        <p:blipFill>
          <a:blip r:embed="rId1"/>
          <a:stretch/>
        </p:blipFill>
        <p:spPr>
          <a:xfrm>
            <a:off x="395280" y="1484280"/>
            <a:ext cx="4176720" cy="43210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Организован в 1966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оздан в головной части образования радиоактивного облака, покрывшего территорию в результате аварии на ПО «Маяк»в 1957 году.Позднее эта территория получила название Восточно-Уральский радиоактивный сл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Здесь ведутся комплексные иследования по вопросам радиоэкологии. Решаются проблемы востановления, эксплуотации растительного и животного мира на территории подвергшейся радиоактивному загряз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Зоологические государственные природные заказни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Шабуров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ый заказ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оложен в лесостепной з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раняются все виды диких живот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шабурово"/>
          <p:cNvPicPr/>
          <p:nvPr/>
        </p:nvPicPr>
        <p:blipFill>
          <a:blip r:embed="rId1"/>
          <a:stretch/>
        </p:blipFill>
        <p:spPr>
          <a:xfrm>
            <a:off x="4643280" y="1628640"/>
            <a:ext cx="3816360" cy="44643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храняемые животн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йц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ух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терев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Изображение 486"/>
          <p:cNvPicPr/>
          <p:nvPr/>
        </p:nvPicPr>
        <p:blipFill>
          <a:blip r:embed="rId1"/>
          <a:stretch/>
        </p:blipFill>
        <p:spPr>
          <a:xfrm>
            <a:off x="4067280" y="1484280"/>
            <a:ext cx="273528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Изображение 461"/>
          <p:cNvPicPr/>
          <p:nvPr/>
        </p:nvPicPr>
        <p:blipFill>
          <a:blip r:embed="rId2"/>
          <a:stretch/>
        </p:blipFill>
        <p:spPr>
          <a:xfrm>
            <a:off x="5299200" y="3938760"/>
            <a:ext cx="273528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20057"/>
          <p:cNvPicPr/>
          <p:nvPr/>
        </p:nvPicPr>
        <p:blipFill>
          <a:blip r:embed="rId3"/>
          <a:stretch/>
        </p:blipFill>
        <p:spPr>
          <a:xfrm>
            <a:off x="3995640" y="1268280"/>
            <a:ext cx="4465800" cy="50850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61" name="Picture 14" descr="Изображение 102"/>
          <p:cNvPicPr/>
          <p:nvPr/>
        </p:nvPicPr>
        <p:blipFill>
          <a:blip r:embed="rId4"/>
          <a:stretch/>
        </p:blipFill>
        <p:spPr>
          <a:xfrm>
            <a:off x="4140360" y="1773360"/>
            <a:ext cx="4424040" cy="3163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танические памятники прир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толетние культуры сос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н в 1975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щадь- 0,02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Булзи"/>
          <p:cNvPicPr/>
          <p:nvPr/>
        </p:nvPicPr>
        <p:blipFill>
          <a:blip r:embed="rId1"/>
          <a:stretch/>
        </p:blipFill>
        <p:spPr>
          <a:xfrm>
            <a:off x="324000" y="1557360"/>
            <a:ext cx="4176720" cy="3960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икальный участок лесных культур сосны, посаженный помещиком Злоказовым вручн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 130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ет историческое и научное 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лес шабурово"/>
          <p:cNvPicPr/>
          <p:nvPr/>
        </p:nvPicPr>
        <p:blipFill>
          <a:blip r:embed="rId1"/>
          <a:stretch/>
        </p:blipFill>
        <p:spPr>
          <a:xfrm>
            <a:off x="324000" y="260280"/>
            <a:ext cx="4038480" cy="39704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Гидрологические памятники прир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Озеро Араку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ешение от 196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рупный водоём. Имеет высокое качество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брамлено живописными берегами со скальными выступ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меет большое значение для организации тур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оз аракуль светленькое"/>
          <p:cNvPicPr/>
          <p:nvPr/>
        </p:nvPicPr>
        <p:blipFill>
          <a:blip r:embed="rId1"/>
          <a:stretch/>
        </p:blipFill>
        <p:spPr>
          <a:xfrm>
            <a:off x="684360" y="1557360"/>
            <a:ext cx="4103640" cy="3382920"/>
          </a:xfrm>
          <a:prstGeom prst="rect">
            <a:avLst/>
          </a:prstGeom>
          <a:ln w="0">
            <a:noFill/>
          </a:ln>
        </p:spPr>
      </p:pic>
      <p:sp>
        <p:nvSpPr>
          <p:cNvPr id="71" name="Line 10"/>
          <p:cNvSpPr/>
          <p:nvPr/>
        </p:nvSpPr>
        <p:spPr>
          <a:xfrm flipH="1">
            <a:off x="1692360" y="1989000"/>
            <a:ext cx="3024000" cy="8636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P1000812"/>
          <p:cNvPicPr/>
          <p:nvPr/>
        </p:nvPicPr>
        <p:blipFill>
          <a:blip r:embed="rId2"/>
          <a:stretch/>
        </p:blipFill>
        <p:spPr>
          <a:xfrm>
            <a:off x="684360" y="1413000"/>
            <a:ext cx="4176720" cy="5182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20:28:59Z</dcterms:created>
  <dc:creator>Лазаревы</dc:creator>
  <dc:description/>
  <dc:language>en-US</dc:language>
  <cp:lastModifiedBy>u3042</cp:lastModifiedBy>
  <dcterms:modified xsi:type="dcterms:W3CDTF">2008-12-11T06:31:39Z</dcterms:modified>
  <cp:revision>5</cp:revision>
  <dc:subject/>
  <dc:title>Слайд 1</dc:title>
</cp:coreProperties>
</file>