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219-3AD2-40A1-8755-A1F5BDAE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802-175B-49BF-959E-97916448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FAF-4FDB-4A77-96FE-F0731824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99A-636B-486C-90D0-BBFEF5F9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E23-A751-486F-9ACD-2DD03DFE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B1C-8344-469C-BE62-903E21D8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D148-4B11-4D2A-83AF-CA0C19A7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FBF-2829-493C-AEB5-D5D2874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842-33FC-4006-8565-9A6A1660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AD1-AD38-44BE-AD0E-066F4235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954-F689-4852-9DD3-BC5BDE7F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570-CDBE-494A-AAEE-15415213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25F3-0A21-4661-84A7-07C766CC6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Wide Latin"/>
              </a:rPr>
              <a:t>СИНАРА ОСТАЁТСЯ, А ВРЕМЕНА ГОДА МЕНЯЮ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Wide Latin"/>
              </a:rPr>
              <a:t>НА РАЗНЫХ БЕРЕГАХ : ВОЗДВИЖЕНКА И СНЕЖИН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838080" y="380880"/>
            <a:ext cx="7620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92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На берегах Синар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4" name="AutoShape 11">
            <a:hlinkClick r:id="rId4" action="ppaction://hlinksldjump"/>
          </p:cNvPr>
          <p:cNvSpPr/>
          <p:nvPr/>
        </p:nvSpPr>
        <p:spPr>
          <a:xfrm>
            <a:off x="4952880" y="2514600"/>
            <a:ext cx="1828800" cy="533520"/>
          </a:xfrm>
          <a:prstGeom prst="rightArrow">
            <a:avLst>
              <a:gd name="adj1" fmla="val 45833"/>
              <a:gd name="adj2" fmla="val 1957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>
            <a:hlinkClick r:id="rId5" action="ppaction://hlinksldjump"/>
          </p:cNvPr>
          <p:cNvSpPr/>
          <p:nvPr/>
        </p:nvSpPr>
        <p:spPr>
          <a:xfrm>
            <a:off x="1295280" y="5410080"/>
            <a:ext cx="1067040" cy="914400"/>
          </a:xfrm>
          <a:prstGeom prst="downArrow">
            <a:avLst>
              <a:gd name="adj1" fmla="val 47620"/>
              <a:gd name="adj2" fmla="val 43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4">
            <a:hlinkClick r:id="rId6" action="ppaction://hlinksldjump"/>
          </p:cNvPr>
          <p:cNvSpPr/>
          <p:nvPr/>
        </p:nvSpPr>
        <p:spPr>
          <a:xfrm>
            <a:off x="5029200" y="5334120"/>
            <a:ext cx="990720" cy="1066680"/>
          </a:xfrm>
          <a:prstGeom prst="downArrow">
            <a:avLst>
              <a:gd name="adj1" fmla="val 50000"/>
              <a:gd name="adj2" fmla="val 269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night1_8"/>
          <p:cNvPicPr/>
          <p:nvPr/>
        </p:nvPicPr>
        <p:blipFill>
          <a:blip r:embed="rId2"/>
          <a:stretch/>
        </p:blipFill>
        <p:spPr>
          <a:xfrm>
            <a:off x="228600" y="152280"/>
            <a:ext cx="380988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street3_4"/>
          <p:cNvPicPr/>
          <p:nvPr/>
        </p:nvPicPr>
        <p:blipFill>
          <a:blip r:embed="rId3"/>
          <a:stretch/>
        </p:blipFill>
        <p:spPr>
          <a:xfrm>
            <a:off x="5334120" y="228600"/>
            <a:ext cx="3287520" cy="246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night1_7"/>
          <p:cNvPicPr/>
          <p:nvPr/>
        </p:nvPicPr>
        <p:blipFill>
          <a:blip r:embed="rId4"/>
          <a:stretch/>
        </p:blipFill>
        <p:spPr>
          <a:xfrm>
            <a:off x="304920" y="2666880"/>
            <a:ext cx="4190760" cy="242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treets-03"/>
          <p:cNvPicPr/>
          <p:nvPr/>
        </p:nvPicPr>
        <p:blipFill>
          <a:blip r:embed="rId5"/>
          <a:stretch/>
        </p:blipFill>
        <p:spPr>
          <a:xfrm>
            <a:off x="4800600" y="2133720"/>
            <a:ext cx="3733920" cy="2857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treets-22"/>
          <p:cNvPicPr/>
          <p:nvPr/>
        </p:nvPicPr>
        <p:blipFill>
          <a:blip r:embed="rId6"/>
          <a:stretch/>
        </p:blipFill>
        <p:spPr>
          <a:xfrm>
            <a:off x="2133720" y="3505320"/>
            <a:ext cx="4800600" cy="31417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9">
            <a:hlinkClick r:id="" action="ppaction://hlinkshowjump?jump=firs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304920" y="22860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има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8" descr="IMG_1567"/>
          <p:cNvPicPr/>
          <p:nvPr/>
        </p:nvPicPr>
        <p:blipFill>
          <a:blip r:embed="rId2"/>
          <a:stretch/>
        </p:blipFill>
        <p:spPr>
          <a:xfrm>
            <a:off x="5334120" y="22860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IMG_1917"/>
          <p:cNvPicPr/>
          <p:nvPr/>
        </p:nvPicPr>
        <p:blipFill>
          <a:blip r:embed="rId3"/>
          <a:srcRect l="0" t="0" r="0" b="-526"/>
          <a:stretch/>
        </p:blipFill>
        <p:spPr>
          <a:xfrm>
            <a:off x="4800600" y="2971800"/>
            <a:ext cx="3987720" cy="358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IMG_2660"/>
          <p:cNvPicPr/>
          <p:nvPr/>
        </p:nvPicPr>
        <p:blipFill>
          <a:blip r:embed="rId4"/>
          <a:stretch/>
        </p:blipFill>
        <p:spPr>
          <a:xfrm>
            <a:off x="4495680" y="1905120"/>
            <a:ext cx="3683160" cy="27622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1">
            <a:hlinkClick r:id="" action="ppaction://hlinkshowjump?jump=firs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MG_2366"/>
          <p:cNvPicPr/>
          <p:nvPr/>
        </p:nvPicPr>
        <p:blipFill>
          <a:blip r:embed="rId2"/>
          <a:stretch/>
        </p:blipFill>
        <p:spPr>
          <a:xfrm>
            <a:off x="533520" y="152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MG_1554"/>
          <p:cNvPicPr/>
          <p:nvPr/>
        </p:nvPicPr>
        <p:blipFill>
          <a:blip r:embed="rId3"/>
          <a:stretch/>
        </p:blipFill>
        <p:spPr>
          <a:xfrm>
            <a:off x="4952880" y="15228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IMG_1932"/>
          <p:cNvPicPr/>
          <p:nvPr/>
        </p:nvPicPr>
        <p:blipFill>
          <a:blip r:embed="rId4"/>
          <a:stretch/>
        </p:blipFill>
        <p:spPr>
          <a:xfrm>
            <a:off x="457200" y="3200400"/>
            <a:ext cx="4597560" cy="3448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>
            <a:hlinkClick r:id="" action="ppaction://hlinkshowjump?jump=firs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4191120" y="762120"/>
            <a:ext cx="4343400" cy="514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566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"/>
              </a:rPr>
              <a:t>Весна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715000" y="167652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4343400" y="38088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т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" name="Picture 8" descr="Изображение 032"/>
          <p:cNvPicPr/>
          <p:nvPr/>
        </p:nvPicPr>
        <p:blipFill>
          <a:blip r:embed="rId2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Изображение 047"/>
          <p:cNvPicPr/>
          <p:nvPr/>
        </p:nvPicPr>
        <p:blipFill>
          <a:blip r:embed="rId3"/>
          <a:stretch/>
        </p:blipFill>
        <p:spPr>
          <a:xfrm>
            <a:off x="762120" y="1295280"/>
            <a:ext cx="3581280" cy="314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Изображение 041"/>
          <p:cNvPicPr/>
          <p:nvPr/>
        </p:nvPicPr>
        <p:blipFill>
          <a:blip r:embed="rId4"/>
          <a:stretch/>
        </p:blipFill>
        <p:spPr>
          <a:xfrm>
            <a:off x="0" y="3238560"/>
            <a:ext cx="3429000" cy="36194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>
            <a:hlinkClick r:id="" action="ppaction://hlinkshowjump?jump=firstslide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638680" y="152280"/>
            <a:ext cx="3276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0" y="152280"/>
            <a:ext cx="3429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1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ень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Picture 8" descr="Изображение 007"/>
          <p:cNvPicPr/>
          <p:nvPr/>
        </p:nvPicPr>
        <p:blipFill>
          <a:blip r:embed="rId2"/>
          <a:stretch/>
        </p:blipFill>
        <p:spPr>
          <a:xfrm>
            <a:off x="228600" y="1447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Изображение 045"/>
          <p:cNvPicPr/>
          <p:nvPr/>
        </p:nvPicPr>
        <p:blipFill>
          <a:blip r:embed="rId3"/>
          <a:stretch/>
        </p:blipFill>
        <p:spPr>
          <a:xfrm>
            <a:off x="228600" y="3657600"/>
            <a:ext cx="259380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Изображение 004"/>
          <p:cNvPicPr/>
          <p:nvPr/>
        </p:nvPicPr>
        <p:blipFill>
          <a:blip r:embed="rId4"/>
          <a:stretch/>
        </p:blipFill>
        <p:spPr>
          <a:xfrm>
            <a:off x="3657600" y="8380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IMG_1373"/>
          <p:cNvPicPr/>
          <p:nvPr/>
        </p:nvPicPr>
        <p:blipFill>
          <a:blip r:embed="rId5"/>
          <a:stretch/>
        </p:blipFill>
        <p:spPr>
          <a:xfrm>
            <a:off x="1981080" y="3809880"/>
            <a:ext cx="3759480" cy="28195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2">
            <a:hlinkClick r:id="" action="ppaction://hlinkshowjump?jump=firstslide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7276" y="3837"/>
                </a:moveTo>
                <a:lnTo>
                  <a:pt x="19852" y="6448"/>
                </a:ln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lnTo>
                  <a:pt x="24239" y="10800"/>
                </a:lnTo>
                <a:lnTo>
                  <a:pt x="22585" y="10800"/>
                </a:lnTo>
                <a:lnTo>
                  <a:pt x="22585" y="17989"/>
                </a:lnTo>
                <a:lnTo>
                  <a:pt x="11967" y="17989"/>
                </a:lnTo>
                <a:lnTo>
                  <a:pt x="11967" y="10800"/>
                </a:lnTo>
                <a:lnTo>
                  <a:pt x="10313" y="10800"/>
                </a:lnTo>
                <a:close/>
              </a:path>
              <a:path fill="darkenLess" w="34552" h="21600">
                <a:moveTo>
                  <a:pt x="19852" y="6448"/>
                </a:move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close/>
              </a:path>
              <a:path fill="darkenLess" w="34552" h="21600">
                <a:moveTo>
                  <a:pt x="16353" y="14299"/>
                </a:moveTo>
                <a:lnTo>
                  <a:pt x="18199" y="14299"/>
                </a:lnTo>
                <a:lnTo>
                  <a:pt x="18199" y="17989"/>
                </a:lnTo>
                <a:lnTo>
                  <a:pt x="22585" y="17989"/>
                </a:lnTo>
                <a:lnTo>
                  <a:pt x="22585" y="10800"/>
                </a:lnTo>
                <a:lnTo>
                  <a:pt x="11967" y="10800"/>
                </a:lnTo>
                <a:lnTo>
                  <a:pt x="11967" y="17989"/>
                </a:lnTo>
                <a:lnTo>
                  <a:pt x="163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99"/>
                </a:solidFill>
                <a:latin typeface="Arial"/>
              </a:rPr>
              <a:t>Воздвиж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герб Воздвиженки"/>
          <p:cNvPicPr/>
          <p:nvPr/>
        </p:nvPicPr>
        <p:blipFill>
          <a:blip r:embed="rId2"/>
          <a:stretch/>
        </p:blipFill>
        <p:spPr>
          <a:xfrm>
            <a:off x="6781680" y="30492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">
            <a:hlinkClick r:id="" action="ppaction://hlinkshowjump?jump=first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STB_1862"/>
          <p:cNvPicPr/>
          <p:nvPr/>
        </p:nvPicPr>
        <p:blipFill>
          <a:blip r:embed="rId2"/>
          <a:stretch/>
        </p:blipFill>
        <p:spPr>
          <a:xfrm>
            <a:off x="304920" y="42670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IMG_1597"/>
          <p:cNvPicPr/>
          <p:nvPr/>
        </p:nvPicPr>
        <p:blipFill>
          <a:blip r:embed="rId3"/>
          <a:stretch/>
        </p:blipFill>
        <p:spPr>
          <a:xfrm>
            <a:off x="6019920" y="304920"/>
            <a:ext cx="2768400" cy="207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IMG_0942"/>
          <p:cNvPicPr/>
          <p:nvPr/>
        </p:nvPicPr>
        <p:blipFill>
          <a:blip r:embed="rId4"/>
          <a:stretch/>
        </p:blipFill>
        <p:spPr>
          <a:xfrm>
            <a:off x="5105520" y="198108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IMG_0951"/>
          <p:cNvPicPr/>
          <p:nvPr/>
        </p:nvPicPr>
        <p:blipFill>
          <a:blip r:embed="rId5"/>
          <a:stretch/>
        </p:blipFill>
        <p:spPr>
          <a:xfrm>
            <a:off x="6172200" y="449568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IMG_0967"/>
          <p:cNvPicPr/>
          <p:nvPr/>
        </p:nvPicPr>
        <p:blipFill>
          <a:blip r:embed="rId6"/>
          <a:stretch/>
        </p:blipFill>
        <p:spPr>
          <a:xfrm>
            <a:off x="380880" y="228600"/>
            <a:ext cx="3200400" cy="235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IMG_0955"/>
          <p:cNvPicPr/>
          <p:nvPr/>
        </p:nvPicPr>
        <p:blipFill>
          <a:blip r:embed="rId7"/>
          <a:stretch/>
        </p:blipFill>
        <p:spPr>
          <a:xfrm>
            <a:off x="3048120" y="3657600"/>
            <a:ext cx="2743200" cy="2577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IMG_1581"/>
          <p:cNvPicPr/>
          <p:nvPr/>
        </p:nvPicPr>
        <p:blipFill>
          <a:blip r:embed="rId8"/>
          <a:stretch/>
        </p:blipFill>
        <p:spPr>
          <a:xfrm>
            <a:off x="3124080" y="457200"/>
            <a:ext cx="3302280" cy="247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IMG_1582"/>
          <p:cNvPicPr/>
          <p:nvPr/>
        </p:nvPicPr>
        <p:blipFill>
          <a:blip r:embed="rId9"/>
          <a:stretch/>
        </p:blipFill>
        <p:spPr>
          <a:xfrm>
            <a:off x="1752480" y="1523880"/>
            <a:ext cx="3683160" cy="27622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>
            <a:hlinkClick r:id="" action="ppaction://hlinkshowjump?jump=firstslide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7276" y="3837"/>
                </a:moveTo>
                <a:lnTo>
                  <a:pt x="19852" y="6448"/>
                </a:ln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lnTo>
                  <a:pt x="24239" y="10800"/>
                </a:lnTo>
                <a:lnTo>
                  <a:pt x="22585" y="10800"/>
                </a:lnTo>
                <a:lnTo>
                  <a:pt x="22585" y="17989"/>
                </a:lnTo>
                <a:lnTo>
                  <a:pt x="11967" y="17989"/>
                </a:lnTo>
                <a:lnTo>
                  <a:pt x="11967" y="10800"/>
                </a:lnTo>
                <a:lnTo>
                  <a:pt x="10313" y="10800"/>
                </a:lnTo>
                <a:close/>
              </a:path>
              <a:path fill="darkenLess" w="34552" h="21600">
                <a:moveTo>
                  <a:pt x="19852" y="6448"/>
                </a:move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close/>
              </a:path>
              <a:path fill="darkenLess" w="34552" h="21600">
                <a:moveTo>
                  <a:pt x="16353" y="14299"/>
                </a:moveTo>
                <a:lnTo>
                  <a:pt x="18199" y="14299"/>
                </a:lnTo>
                <a:lnTo>
                  <a:pt x="18199" y="17989"/>
                </a:lnTo>
                <a:lnTo>
                  <a:pt x="22585" y="17989"/>
                </a:lnTo>
                <a:lnTo>
                  <a:pt x="22585" y="10800"/>
                </a:lnTo>
                <a:lnTo>
                  <a:pt x="11967" y="10800"/>
                </a:lnTo>
                <a:lnTo>
                  <a:pt x="11967" y="17989"/>
                </a:lnTo>
                <a:lnTo>
                  <a:pt x="163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Снежин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>
            <a:hlinkClick r:id="" action="ppaction://hlinkshowjump?jump=fir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3837"/>
                </a:moveTo>
                <a:lnTo>
                  <a:pt x="16971" y="6448"/>
                </a:ln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lnTo>
                  <a:pt x="21357" y="10800"/>
                </a:lnTo>
                <a:lnTo>
                  <a:pt x="19704" y="10800"/>
                </a:lnTo>
                <a:lnTo>
                  <a:pt x="19704" y="17989"/>
                </a:lnTo>
                <a:lnTo>
                  <a:pt x="9085" y="17989"/>
                </a:lnTo>
                <a:lnTo>
                  <a:pt x="9085" y="10800"/>
                </a:lnTo>
                <a:lnTo>
                  <a:pt x="7431" y="10800"/>
                </a:lnTo>
                <a:close/>
              </a:path>
              <a:path fill="darkenLess" w="28789" h="21600">
                <a:moveTo>
                  <a:pt x="16971" y="6448"/>
                </a:move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close/>
              </a:path>
              <a:path fill="darkenLess" w="28789" h="21600">
                <a:moveTo>
                  <a:pt x="13472" y="14299"/>
                </a:moveTo>
                <a:lnTo>
                  <a:pt x="15317" y="14299"/>
                </a:lnTo>
                <a:lnTo>
                  <a:pt x="15317" y="17989"/>
                </a:lnTo>
                <a:lnTo>
                  <a:pt x="19704" y="17989"/>
                </a:lnTo>
                <a:lnTo>
                  <a:pt x="19704" y="10800"/>
                </a:lnTo>
                <a:lnTo>
                  <a:pt x="9085" y="10800"/>
                </a:lnTo>
                <a:lnTo>
                  <a:pt x="9085" y="17989"/>
                </a:lnTo>
                <a:lnTo>
                  <a:pt x="134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3042</cp:lastModifiedBy>
  <dcterms:modified xsi:type="dcterms:W3CDTF">2008-12-11T06:21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